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88CD-B8E3-403A-9071-AA6B631B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628-3B9D-464D-A5FA-8DC33581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0C5A-82D0-4597-AC8D-D1B35F33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DED-261B-4718-A269-C6869EA5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435-7621-46BB-9297-7099327C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AABD-4649-4060-9507-0B5C3486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BD7-7A47-497C-B620-5155B59C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6BB-1099-4BCA-82AD-D9113016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DEBC-7D87-44F2-AA6F-7ADCDBC5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CAC-2D2F-4E5B-B855-A0791E2A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D7F-0464-4582-B16D-432FC043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46EC-17C0-41D1-9237-E40F311F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9081-E16A-4318-AF1C-DC6C11E9AB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2160" y="1447920"/>
            <a:ext cx="63025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Probabilitie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ensitivity a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pecificit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620120" cy="4876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762120"/>
            <a:ext cx="7597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925040" cy="3209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7925040" cy="2133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4114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59436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925040" cy="3209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7925040" cy="507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295280" y="4724280"/>
            <a:ext cx="6248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925040" cy="3209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7925040" cy="380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>
            <a:off x="5486040" y="41148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60962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3209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924680" cy="685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086600" y="41148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62120" y="4495680"/>
            <a:ext cx="784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77240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77724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5410080"/>
            <a:ext cx="2362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153640" cy="5791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10280" y="5943600"/>
            <a:ext cx="1752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2286000"/>
            <a:ext cx="289584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6:38:23Z</dcterms:modified>
  <cp:revision>215</cp:revision>
  <dc:subject/>
  <dc:title>Slide 1</dc:title>
</cp:coreProperties>
</file>